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7.pct" ContentType="image/x-pict"/>
  <Override PartName="/ppt/media/image11.pct" ContentType="image/x-pict"/>
  <Override PartName="/ppt/media/image6.pct" ContentType="image/x-pict"/>
  <Override PartName="/ppt/media/image10.pct" ContentType="image/x-pict"/>
  <Override PartName="/ppt/media/image4.pct" ContentType="image/x-pict"/>
  <Override PartName="/ppt/media/image21.pct" ContentType="image/x-pict"/>
  <Override PartName="/ppt/media/image19.pct" ContentType="image/x-pict"/>
  <Override PartName="/ppt/media/image1.pct" ContentType="image/x-pict"/>
  <Override PartName="/ppt/media/image3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5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ED9373C-B556-45FA-AD3D-AB5F43B4FB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image" Target="../media/image9.pct"/><Relationship Id="rId4" Type="http://schemas.openxmlformats.org/officeDocument/2006/relationships/image" Target="../media/image10.pct"/><Relationship Id="rId5" Type="http://schemas.openxmlformats.org/officeDocument/2006/relationships/image" Target="../media/image11.pct"/><Relationship Id="rId6" Type="http://schemas.openxmlformats.org/officeDocument/2006/relationships/image" Target="../media/image12.pct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09480" y="99072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ween and Within Subject Measures of Aff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33520" y="2971800"/>
            <a:ext cx="8229600" cy="278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lliam Revelle and Eshkol Rafaeli-M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thwestern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ropean Association of Personality Psych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akow, Poland, July,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ttp://www.personality-project.org     http://pmc.psych.nwu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 between subject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2700 participants aggregated from &gt; 40 studies of personality and cognition at NU over 6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line measurements taken using the MSQ (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ies done from 5:30 am to 10:3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dditional analyses of effects of caffeine, exercise and movies on affect-not reported he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 between subject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tor extraction using PF and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tor number determined by Very Simple Structure (V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 2 factor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ial skew leads to suggestions of more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cluster solution representing +/- ends of two dim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0492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y Simple Structure =&gt; 2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905120" y="1206360"/>
            <a:ext cx="4521240" cy="5651640"/>
            <a:chOff x="1905120" y="1206360"/>
            <a:chExt cx="4521240" cy="5651640"/>
          </a:xfrm>
        </p:grpSpPr>
        <p:sp>
          <p:nvSpPr>
            <p:cNvPr id="92" name=""/>
            <p:cNvSpPr/>
            <p:nvPr/>
          </p:nvSpPr>
          <p:spPr>
            <a:xfrm>
              <a:off x="1996920" y="1265400"/>
              <a:ext cx="4321080" cy="554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838080" y="457200"/>
            <a:ext cx="769608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Dimensions of Aff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828800" y="1054080"/>
            <a:ext cx="5346720" cy="5803920"/>
            <a:chOff x="1828800" y="1054080"/>
            <a:chExt cx="5346720" cy="58039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1828800" y="1054080"/>
              <a:ext cx="5346720" cy="580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1920960" y="1112760"/>
              <a:ext cx="5145120" cy="5699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30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Dimensions of Aff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143000" y="762120"/>
            <a:ext cx="6413400" cy="6095880"/>
            <a:chOff x="1143000" y="762120"/>
            <a:chExt cx="6413400" cy="609588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1143000" y="762120"/>
              <a:ext cx="6413400" cy="609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1235160" y="819000"/>
              <a:ext cx="6216480" cy="5992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ative MSQ items (arranged by angular locatio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463840" y="1981080"/>
            <a:ext cx="422892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e sources of data-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ween subject “snap shot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jective check 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ting sc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 subject “diary” studi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y high frequency/continuous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frequency samp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frequency samp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 subject diary studies-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y High Frequency (continuous) measu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ological ass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tis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dy temperatu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e body temperature collected for ≈ 2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taken by aggregating subjects from multiple studies conducted by Eastman and Baehr on phase shifting by light and exerc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6094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dy Temperature as f(time of day)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aehr, Revelle &amp; Eastman, 20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57200"/>
            <a:ext cx="8077320" cy="101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ningness/Eveningness and BT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aehr, Revelle and Eastman, 20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8500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ween and Within Subject Measures of Aff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981080"/>
            <a:ext cx="7772400" cy="41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lliam Revelle and Eshkol Rafaeli-M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the collaboration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is Anderson,  G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in Baehr, Northwestern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glas Billings,  St. Marys Colle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gory Rogers, University of Chica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shi Agrawal, Northwestern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ra Mehta, University of Illinois, Chica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f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 ARI contract 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Geneva"/>
              </a:rPr>
              <a:t>MDA903-93-K-0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e sources of data-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ween subject “snap shot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jective check 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ting sc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 subject “diary”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y high frequency/continuous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frequency sampl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frequency samp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 subject diary studies-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 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ting sc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frequency sampl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e samples per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frequency  sam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a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times at different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5800" y="60948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frequency measures of aff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es taken every 3 hours during waking day for 6-14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per and pencil mood ra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form of the MSQ -- Visual Analog 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d every 3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able computer (Palm) mood ratings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form of the MS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d every 3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lm Affect Surv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334120" y="1981080"/>
            <a:ext cx="2793960" cy="4241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838080" y="1981080"/>
            <a:ext cx="2793960" cy="42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lm affect and activity surv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429000" y="1828800"/>
            <a:ext cx="2044800" cy="20448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09480" y="1828800"/>
            <a:ext cx="2044800" cy="20448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3429000" y="4038480"/>
            <a:ext cx="2044800" cy="20448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6248520" y="4114800"/>
            <a:ext cx="2044800" cy="20448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6172200" y="1828800"/>
            <a:ext cx="2044800" cy="20448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6"/>
          <a:stretch/>
        </p:blipFill>
        <p:spPr>
          <a:xfrm>
            <a:off x="609480" y="4114800"/>
            <a:ext cx="204480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ditional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 lev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getic arou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nse arou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ve a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ative a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elation across measures (Synchron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ic measures of aff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t 24 hour cosine to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rative fit for best fitting cos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utation test of significance of 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t (cohere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li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457200"/>
            <a:ext cx="838188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fective rhythms can differ in pha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imulation - double plotted to show rhyth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059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38088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e differences of simulated daily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305920" cy="64771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7920" y="7920"/>
            <a:ext cx="2971800" cy="108576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08080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  <a:ea typeface="Geneva"/>
              </a:rPr>
              <a:t>William Revel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Geneva"/>
              </a:rPr>
              <a:t>Should this come before the 24 hour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3049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ces in coherence (fit) simulated daily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3059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ween and Within Subject Measures of Aff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onality traits and affective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ween versus within measures of mood and a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ditional measures of dimensionality, stability  and variability of a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ive within subject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ies of the “tides of emotio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o cognitive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305920" cy="64771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 txBox="1"/>
          <p:nvPr/>
        </p:nvSpPr>
        <p:spPr>
          <a:xfrm>
            <a:off x="685800" y="304920"/>
            <a:ext cx="762012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e and Coherence differenc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imulated data -- double plot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-228600" y="-1143000"/>
            <a:ext cx="10337760" cy="80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-596880" y="-1155600"/>
            <a:ext cx="10350360" cy="801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-596880" y="-1155600"/>
            <a:ext cx="10350360" cy="801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-596880" y="-1155600"/>
            <a:ext cx="10350360" cy="801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-level analysis of patterns of affect across time-1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 subject estimates of basic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tter (variabil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herence (f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ween subject measures of reli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ek 1/Gap/Week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-level analyses of affect-2: 1-2 week Test-Retest Reli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197080" y="2082960"/>
            <a:ext cx="476244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09480" y="609480"/>
            <a:ext cx="784872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fective rhythms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gnitive performance-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: High frequency diary study of affect combined with a low frequency study of reaction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jects: 28 NU undergraduate volunte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week diary study 5 times a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reaction time once a day at 5 different times using a Mac program at 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fective rhythms 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gnitive performance-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negative correlations of RT with concurrent measures of Energetic Arou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onger negative correlations of RT with Cosine fitted Energetic Arou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&gt; Diurnal variation in RT may be fitted by immediate and patterns of arou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ween and Within Subject Measures of Aff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onality traits and affective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ween versus within measures of mood and a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ive within subject measures- studying the “tides of emo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o cognitive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information found on links from the personality project  --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ttp://www.personality-project.org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the Personality-Motivation lab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http://pmc.psych.nwu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04920" y="60948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onality traits and affective st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80880" y="1981080"/>
            <a:ext cx="8458200" cy="390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onality: a musical metaph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une may be recognizable even if played with different notes with a different instr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erson is recognizable by the patterning of affective and cognitive states even though specific behavioral acts v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onality traits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herent patterns of changes of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-level modeling of parameters of a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Amplit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Coh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rony (of multiple affec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ong and short term predictability of aff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happy will you feel 12 years from to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some people more likely to be happy than oth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happy will you feel 12 hours from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some people more predictable over ti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do affective rhythms allow for a better understanding of cognitive proces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e formulations of the measurement of aff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dimensional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fective Valence and Arousal (Russell et al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ve and Negative Affect (Tellegen, Watson &amp; Clar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getic and Tense Arousal (Th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dimensional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getic and  Tense Arousal, and Hedonic Tone (Matthe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erarchical models (Watson and Telleg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e sources of data-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ween subject “snap shots” 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jective check 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ting sc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 subject “diary”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y high frequency/continuous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frequency samp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frequency samp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jective check lists (“I feel …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ge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T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eep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C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ting scales (“I feel …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y happy, happy, sad, very sad    (Bipol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at all, somewhat, very happy  (Unipol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ween subject “snap shot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 between subject structu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1981080"/>
            <a:ext cx="7772400" cy="420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tivational  State Questionnaire (MSQ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-72 Item rating (0-3) sca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s taken fr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yer’s Activation-Deactivation A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son and Clark’s PA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ener and Larson Circumplex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 Ite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e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leep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e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ir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xio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x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